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EE8-FD38-4EA6-B0CC-9F75E9C9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D0E-AAE6-4001-8834-7C9048C6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26A-B799-4616-80D4-5C6666F2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2F1-C0A0-40D4-BE3C-CD9D3490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8424-7C3D-420D-972E-F35EFD24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00E8-6F27-4061-801A-DBBF51CC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9C1B-CE94-495F-88B3-C5D50A15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EFAB-EBF6-4977-B719-29DAE035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8670-CDBB-461B-BB86-A67E385E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91B7-5F6A-4C6D-B8F1-8ED5685A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A4EC-DB6B-4AC6-9874-90BA282D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271-7FDA-4C49-BA31-FD700928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BC2F-EE4B-42CE-BE23-F75EF8D4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4419-9577-4175-9177-D7FDF206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1290-E706-4738-AF38-35A18B03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F250-DCAA-4771-A092-384730D9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6E9F-D257-4470-A564-B378548F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14FD-417A-47DD-9217-FA0ADE3B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CDBE-2E4D-46F9-B3D8-D8CEAB1A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EE4C-310C-4D60-B769-2B38AA47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40D8-47E8-416A-9BDE-B7FEE5A2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8A7E-CFD1-49ED-AE2F-4110FF54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BF6-695F-49C3-BD74-07197821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8511-1249-4B2D-92EB-2519616A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D5F4F-2A00-4906-B2D6-4F048131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ED359-3A5A-4E39-B09B-95C55F82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A023-C4A8-45BF-B828-071822B2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D783-CD7D-4F3B-AEBF-0E5A2EC5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9043-5BE5-4834-8404-E753D118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82A3-F95C-4E35-8A39-353EC268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91EE-FBD9-41D9-AC82-F47B11DB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3C29-6ED6-4299-B6A9-3541FD46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9576-8CFA-4C7E-A8B6-34A6B15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C7C-557E-42B8-9442-DB5B11EE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22D9-FA8A-4E2C-95D3-75A4C70A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5E41-D8DE-492E-815D-7873FACA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ECAB-A1E1-4658-A4CF-5D0963E0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9FA7E-EFB2-4E19-94D0-24E46D06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2493-4469-4A9C-A744-87CA56B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42C5-4689-4409-B7B1-BCCFC06F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98707-2E38-45E7-9111-9C1CA4C0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FCAA-9410-4289-88B4-FFBD85E8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80B24-F04E-4531-856E-D73472D8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7BF16-14D6-4F64-80EE-E0746BE9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ECF-CF6B-4129-9CF3-54643DAA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D6F09-C2A1-4504-8531-4F85786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724A8-7131-401A-9010-E0FA1D41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8D90-44D5-40ED-AB58-A8454C7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CC50B-5A9B-4228-9B41-19ED5704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7F204-CEF5-454B-9F6D-D964C38E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31D81-7E57-4F38-9619-0274BE7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D16D-12F8-4EE4-A9B3-128256E9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5AC78-3FD8-452A-9F5F-B9F3BACF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A448D-B6C5-418C-92D9-944D88AB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CDED-0B4E-488B-B463-BD6445A7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D28-9FE5-45DC-86E3-B5B58593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176F0-1B21-4ECD-9763-35D98685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7A3A6-0BC3-41AD-8CA8-8D2C69DF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7EE3-B181-4939-B5E3-C58F1F10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AC512-5CB7-4F67-B817-47B8F0A6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AC9C-4063-45D2-BF94-E69A87A5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20FAD-C0BA-4AED-B017-87B0177C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8B0A6-0E44-4D0F-9963-AC6507B1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6A047-F5FD-4662-AED9-F785F0C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DE20-B257-428F-820E-BC2516D7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3EE1-4634-485B-9440-F54B4564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E4C-6DD5-4E6D-ABE7-F19D49E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B7EF-5FCE-4320-B0FE-E3FAE113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01B22-94C1-40D2-9AF8-9A75B955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BBF9A-FF3E-4F02-8E52-8E9C3C69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81580-3F08-4396-BA38-3F07F17F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64099-0451-41DC-8021-4719F12A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A702D-C523-43E6-801F-5BAF3256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F2F14-3DBF-4042-AAE9-4D64C369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86AAE-675C-40F8-BC98-84F824FE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4CD1B-16E9-4B37-9E42-79CD79E0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FF1D-BCF1-42AD-9A77-3170ADD3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4A2-E022-4C57-A795-6731A03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C20B-7682-4F35-94DA-11CFD196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22A4B-179F-49A9-B503-8B787D95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EE1FA-4623-4975-B307-209DB082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CF0A5-8A7B-44C7-AED4-9EE88212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89894-092C-4E07-842F-9129903A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D0C19-8CD2-469A-BDF9-99FD1D73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56AE2-BA50-47BB-859A-570D72B1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9F2A7-D057-4794-82DE-F2B3D389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3965D-DFE5-4208-AB1A-1F49B0B4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CE18-3101-43B4-82ED-6002A6A6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483-1070-4CE1-B669-4B778A47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83F2D-4C23-48D6-9BD6-B1149AE0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73635-2AC0-43C1-80B1-4AABAEAD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CAF0-3CC9-4EB2-B339-335AC61D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14231-8D19-4767-BD38-48C57C93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72092-4417-4A98-9076-E673FF9E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4A893-EDC5-4D73-B49C-D0D5921F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174AC-EE0F-473A-BB13-F876E66A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1CA1-746C-4592-9210-40180FCF024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3AA7-6B9A-49ED-B9E8-639819E04CA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E0DF-26D6-4817-9CE1-857EC676640E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AD48-6B19-4F3C-AC40-708E76EF550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4C05-4D3A-4E6B-B379-DF1322FCD0B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0E13-4FEC-451D-A941-104899B8FC5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0B01-3AF7-4107-81FF-4603D4EB3A9A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B06C-E6C3-48BD-9752-80D6A4AD99A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БРЕНДНГ ТЕРРИТОРИ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Факты из истории, актуальность, цели и 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смотрим случай, описанный в книге канадской писательницы, социолога и активистки альтерглобализма Наоми Кляйн «No Logo- Люди против брендов», который представляет собой пример квазибрендинг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мерческая компания попыталась сделать себе рекламу путем брендинга города Кашмир в штате Вашингтон, население которого составляет около двух с половиной тысяч человек. Главное производство в городе — карамельная фабрика Liberty Orchard, с 1918 года выпускающая конфеты «эплетсы» и «котлетсы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Все шло очень мило до тех пор, пока в 1997 году компания Liberty Orchard не объявила, что переедет на более тучные пастбища, если город не согласится преобразовать себя в трехмерную туристическую достопримечательность под маркой всеамериканского бренда «Эплетсы и котлетсы», с соответствующими вывесками вдоль шоссе и с центром города, превращенным в фирменный подарочный магазин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Наоми Кляйн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требования Liberty Orchard, опубликованные в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ll Street Journal</a:t>
            </a: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: 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Они хотят, чтобы на всех дорожных знаках и на официальной муниципальной корреспонденции стояла надпись: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Кашмир, родина эплетсов и котлетсов»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и потребовали, чтобы одна из двух главных улиц города была переименована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отлетс-авеню, а другая — в Эплетс-авен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Карамельщики также хотят, чтобы мэр и муниципалитет продали им городскую ратушу, построили новые парковки и по возможности выбросили на рынок облигации с целью развернуть кампанию по привлечению туристов во всемирную штаб-квартиру фирмы, которая утверждает, что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весть о ее жизни — это «история Америки в миниатюре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ди решения своих задач компания пыталась использовать город как более статусное, чем коммерческая фирма, образование, своим примером проиллюстрировав опасность приватизации общественного простран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вспомнив случай с Украиной, мы увидели, что тоже возникла похожая ситуация с квазибрендинг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так, «брендинг территорий» как явление существовал веками, хотя само понятие появилось только в 21-м столет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смотрим еще примеры обретения популярности той или иной местностью под углом зрения современного брендопроизводств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обходимо помнить, что все новое – это хорошо забытое старое и возможно, рассмотрение эволюции подходов к брендингу мест подскажет новые идеи для актуальных проект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давних времен люди интуитивно занимались тем, что теперь мы назвали бы территориальным маркетингом и брендингом. Стремясь создать благоприятные условия для привлечения ресурсов, они интуитивно использовали те или иные стратегии продвижения, которые тематически можно поделить на религиозные и светск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вижение города через создание религиозного центра позволяло привлечь паломников, а увеличение числа церковных служащих сопровождалось созданием соответствующей инфраструктуры. В романе «Баудолино» (приёмный сын Фридриха Барбароссы)  Умберто Эко писал: «Баудолино понимал, что порядочные мощи могут изменить статус города, сделать из него цель бессчетных паломничеств, преобразить приходскую церковь в мавзолей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1204 год – время 4 крестового поход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, например, в 11 веке в ничем не примечательное местечко в Монако устремились паломники, когда там появились мощи святой Девоты. Местные власти понимали, чему обязаны процветанием: когда в 1070 году капитан флорентийского корабля Антиноп попытался выкрасть мощи из часовни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му отрезали уши и нос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его корабль сожгл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7234200" y="3666960"/>
            <a:ext cx="1905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реданию святая Девота родилась в Мариане, Корсика, около 283 года. Юная дева решила посвятить себя Богу. По приказу префекта по имени Варвар (Barbarus) она была брошена в тюрьму и приняла мучения за свою веру. Её уста были сокрушены, её тело таскали по камням и колючей ежевике. Святая Девота была умучена в Мариане — её четвертовали или забили камн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кончины святой, губернатор приказал сжечь её тело, дабы оно не стало объектом почитания. Однако оно было спасено от пламени христианами. Тело святой было помещено в корабль, отправлявшийся в Африку. Грациан (Gratianus, Graziano), правивший кораблём, Бенедикт (Benedict, Benenato), священник, и Аполлинарий, его диакон, верили, что там тело святой будет достойно погребено. Однако шторм настиг корабль, и голубка, вылетев из уст святой, повела его в то место, где нынче располагается Ле Гомат (Les Gaumates), часть княжества Монако, где уже тогда стояла часовня святого Георг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ё истерзанное тело было найдено рыбаками. В честь святой в Монако была построена часовня, существующая по сей день. Ко дню памяти святой, 27 января, вокруг неё расцветают цве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В чем проблема?!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2525"/>
                </a:solidFill>
                <a:latin typeface="Arial"/>
                <a:ea typeface="Calibri"/>
              </a:rPr>
              <a:t>С Брендингом  городов пока проблем много. Одна — это то,  что нет никаких схем оценки «рынка» и разработки «идеи». Но если вдруг, теоретически, это все таки как-то решится, пусть в упрощенном виде, то появится другая проблема: а внедрять это все как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происходили аналогичные процессы, святые мощи собирали пожертвования и привлекали верующих. Например, после гибели младшего сына Ивана Грозного царевича Димитрия в 1591 году к месту его захоронения в угличском храме в честь Преображения Господня устремились паломни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читалось, что у его гробниц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ершается множество исцелен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лигиозный генезис имеют все город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олотого Кольца Росс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6791400" y="3730680"/>
            <a:ext cx="235260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лигиозный генезис имеют и города Европы, известные под брендом университетских, поскольку изначально университеты создавались на базе монастырей, бывших центрами просвещ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имер, Оксфорд был впервые упомянут в письменном виде в «Англосаксонских хрониках» в 912 году в связи с тем, что на его месте располагалась монашеская обитель Фрайдсвайд, а первый в Великобритании университет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ксфорде был основан в 1117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для того, чтобы дать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ященнослужителям боле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ное образовани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705640" y="4292640"/>
            <a:ext cx="34383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ниверситет стал привлекать студентов и профессоров, их обслуживание создавало рабочие места и повышало доходы местного насе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 образом, мы видим эволюцию содержания бренда: от места паломничества к монастырю до места получения хорошего образования по мере роста престижности самого образов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ли генезис средневековых городов светский, то он чаще всего связан с торговле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Средние века ярмарки не только привлекали купцов, но и служили центрами развлечений - на них стекались уличные артисты и гадал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рмарка в нидерландском  Антверпене, например, приобрела огромную популярность после того, как в 10 веке герцог Брабантский предоставил право свободной торговли в городе английским, венецианским и генуэзским купцам. То есть бренд территории возник не стихийно, но в результате продуманных экономических действий герцога. После этого город начал интенсивно развиваться и к 12 веку стал центром ремесел и одним из крупнейших торговых портов Северной Европ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6-18 века была заложена основа маркетингового позиционирования регионов, определившая нынешний образ территорий. Например, в 18 веке началась история фарфорового производства в немецком Мейсене и британском Веджвуд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16-17 векам восходит вологодское кружевоплетение, к 18 веку - история ивановских ситцев и гжельской керамики. Возникшие в царской России бренды увековечили названия территорий в произведениях фольклора: пословица «в Тулу со своимсамоваром не ездят», песня «оренбургский пуховый платок». В этих случаях брендинг территорий стал побочным результатом создания качественной продукции, но не превратился в квазибрендинг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Создание Историко-культурных образов территорий с помощью карт. 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рта как «картина мира» несла и несет на себе не только объективную информацию об окружающем мире, но всегда передает его образ, даже если автор карты специально к этому не стремилс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еографические карты обладают огромным потенциалом создавать и закреплять образы в общественном сознании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езультате применения различных художественных приемов, в процессе изображения различных фантастических существ, непохожих народов, непривычной природы, эффект образопорождения усиливается, что использовалось в 18-20 веках европейскими художниками для создания историко-культурных образов стра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ение такой карты для непрофессионала превращалось в увлекательное путешествие по реальным и несуществующим странам и городам,, развивая его географическое воображени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дним из примеров образных художественно-картографических произведений того времени служит коллекция изображений стран Европы, изданная в виде атласа. Эти изображения содержат и точные этнографические сведения, и мифологические представления, и актуальные политические реал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ртографические контуры государств и сложные политические и экономические перипетии на мировой арене, порождали у авторов определенные образные ассоциации, как визуальные, так и поэтические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2525"/>
                </a:solidFill>
                <a:latin typeface="Arial"/>
                <a:ea typeface="Calibri"/>
              </a:rPr>
              <a:t>Сегодня город есть то, что он делает. Не было у парижа «идеологии», стратегической цели «занять территорию любви и страсти». Само получилось. Литература, живопись, музыка и кинематограф, как отображение сознания, популяризовали образ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2525"/>
                </a:solidFill>
                <a:latin typeface="Arial"/>
                <a:ea typeface="Calibri"/>
              </a:rPr>
              <a:t>Так, наример, парадоксальная ситуация с геобрендингом: Львов Был обычным городом Украины. Ну со своей историей, конечно, ну с архитектурой хорошей. Но это не влияло на количество туристов.  Появились  3 человека, которые сделали там сеть рестора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24000" y="692280"/>
            <a:ext cx="83628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образ консервативной Шотландии решен, хотя и с явной ироничностью («тетушка-непогодушка»), но зато с точными исторически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, этнокультурными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родными деталями 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чные детали националь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дежды, волынка, замки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хотничьи угодь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5029200" y="1486080"/>
            <a:ext cx="41148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50560" y="620280"/>
            <a:ext cx="8435880" cy="55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раз Италии, напротив, решен на злобу дня, политически. Грозный карбонарий (Италия после многовеково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дробленн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лась как едино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о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ес палку над римски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пой, «упакованным»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трова Корсика и Сарди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другой руке он сжима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чатку с надпись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Свобода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4552920" y="1600200"/>
            <a:ext cx="45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 России решен традиционно, с опорой на расхожее представление о «русском медвед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что значит традицион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ий медведь— олицетворение России, «атрибут российского государства и субститут её верховного правител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первые медведь как символ России встречается на первых географических картах Русского государства. На «Морской карте», составленной и снабжённой комментарием шведским священником Олаусом Магнусом (Olaus Magnus; 1490—1557) в 1539 году, есть медведь — маркер Русского государ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же на картах России обязательно присутствует  двуглавый ор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следующей карте автор с юмором обыгрывает герб страны – двуглавого орла. И потому в компанию к медведю пририсован русский царь в костюме восточного султана, при этом медведь смотрит на запад, а «султан» – на восток. Миф о неисчерпаемых богатствах России подчеркивают реалистические характеристики некоторых русских городов и мест с надписями «золотые и медные рудники», «золото» и т. п. Примечательно, что граница России проведена по формальной границе Европы с Азией. Тем самым автор этой художественной карты явно упростил себе задач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2124000" y="-27000"/>
            <a:ext cx="55436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79280" y="260280"/>
            <a:ext cx="8640720" cy="58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это еще одна карта Европы 1854 года с русским медведем. Носит политический характер, отражая военные действия в Европе  это врем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Шуточная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ат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йствий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"Европ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ысо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тичь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ета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1633680" y="1193760"/>
            <a:ext cx="753264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15560"/>
            <a:ext cx="82296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пространялось и такое представление о Росс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я-осьмино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пространен бы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тип Octopus Map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Россия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ансионистск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ке распуска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и щупаль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757600" y="2276640"/>
            <a:ext cx="63626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Образная карта Европы 1870 года. Сложная политическая ситуация. Балканский кризис.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519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ы уже говорили о том, что часто территория давала названия произведенным на своей территории товарам. Но бывает и наоборо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род Гусь Хрустальный Владимирской области обязан своим названием стекольной мануфактуре, созданной на месте города на реке Гусь в 1756 году. На ее основе был создан Гусевской хрустальный заво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СССР были распространены идеологические названия: Советск, Красноармейск, Сталинград…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И снова к новейшей истор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вестником современного брендинга территории  была «общественная дипломатия». Впервые этот термин в 1965 году употребил  американский дипломат Эдмунд Галлион для обозначения усилий правительства по продвижению национальных интересов за рубежом посредством прямого взаимодействия с населением другого государ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аллион полагал, что «общественной дипломатией» должно заниматься Информационное агентство СШ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IA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ы в городе стали как в Киеве, так как стало гипермодно ездить на все праздники во Льв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же это за рестораны?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!ФЕСТ»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сеть концептуальных авторских ресторанов, основана во Львове в 2007 году. Появление многих ресторанов сети вызвало ожесточённые дискуссии в обществе (в частности относительно ресторанов «Мазох-café» и «Крыивка»). Сеть ресторанов ведет культурную деятельность во Львове, в частности установила памятник львовянину Леопольду фон Захер-Мазох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вые попытки систематизации маркетинговых программ для регионов возникли на Западе во второй половине 20 века вследствие ускорения процессов глобализ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одной стороны, глобализация давала регионам новые экономические возможности, ставшие следствием децентрализ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другой стороны, одним из ее последствий стала «гонка на дно» - снижение государственного регулирования, социальных гарантий и торговых ограничений, ведущее к обострению бед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990-х годах появились исследования, посвященные маркетингу территорий, большинство которых основывалось на утверждении, что территории, как и компании, продают продукты и услуги, в числе которых могут быть объекты для инвестиций, туризм, товары местного производства и так далее. В 1993 году вышло первое издание ставшей знаковой книги Филипа Котлера, Дональда Хайдера и Ирвина Рейна «Маркетинг территорий: привлечение инвестиций, промышленности и туризма в города, штаты и страны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990-е годы практика маркетинга мест стала общепринят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-социально-культурные, исторические, экономические и другие характеристики страны создают архитектуру бренда. В контексте корпоративных брендов Д. Девлин и Д. Маккени определяют архитектуру бренда как «подход организации к разработке и управлению портфелем своих брендов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от понятие «архитектура бренда» применительно к брендингу территорий впервые было рассмотрено Г. Дули, Д. Боуи и К. Динни. В своих исследованиях авторы изучают методы, которыми бренд территории может организовать многочисленные суббренды, так же как корпорации управляют своим портфелем продуктовых и сервисных бренд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в 21 веке российская власть осознала актуальность брендирования территорий и даже предпринимаются попытки, успешные и не очень, по созданию и продвижения образа территори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ще одна проблема связана так же с тем, что нет методики брендинга городов и нет ясности кто и как должен этим заниматься, и за какие день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чем причина мозаичного представления о городах России в  сознании россиян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так, перед страной встает непростая задача − создать крепкий зонтичный бренд, который, с одной стороны, будет значим в разных областях деятельности и для различных целевых аудиторий, а с другой − допустит создание отдельных бренд-коммуникаций для определенных направлен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создать сильный бренд, нужно сформировать четкий набор атрибутов, присущих стране, на основе которых можно сформировать ее позитивное восприятие у целевых аудитор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Цели брендинга территорий: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привлекательности жизни на конкретной территор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инвестиционного климат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лечение туристов и новых жите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имулирование продаж местных производителей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Задачи брендинга территорий: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имулирование местного самосознан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ование консолидированной идентичности местного сообществ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стижение внутренней коллективной апперцепц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активности местного населения в решении местных проблем развит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Законодательная база в современной России: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оряжение Правительства РФ от 17 ноября 2008 г. N 1662-р О Концепции долгосрочного социально-экономического развития РФ на период до 2020 года (с изменениями и дополнения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пция развития регионов «Стратегии социально-экономического развития регионов РФ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РФ от 2 августа 2011 г. № 644 “О федеральной целевой программе "Развитие внутреннего и въездного туризма в Российской Федерации (2011 - 2018 годы)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ЦП "Развитие внутреннего и въездного туризма в Российской Федерации (2011 - 2016 год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стная долгосрочная целевая программа «Создание благоприятных условий для привлечения инвестиций в Ростовскую область на 2012 – 2015 г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рыив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— первое заведение сети «!ФЕСТ». Один из крупнейших по числу посетителей ресторан в Европе. Находится в подвале одного из домов львовской площади Рынок. Концепция ресторана заключается в освещении событий времен ОУН-УПА. В ресторане играет бандеровская музыка, интерьер отделан под настоящую партизанскую землянку. Кухня — украинская, полевая. Блюда подают в военной посуде. В ресторане есть разнообразные аттракционы. Традиция входа в заведение предполагает знания лозунга и проверку рюмкой медовух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входе «парень с немецким автоматом» строго спрашивают «Москали есть?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способствует разжиганию межэтнической ненависти, но на посещаемость это не влияет. В меню ресторана находятся: коктейль «Кровь москаля», мясо «Жорик, хенде хох», «Ужин лесного гауляйтера», овощи «Будни вермахта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Этапы и мероприятия по формированию конкурентной идентичности территории: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ЛЕЧЕНИЕ ИНВЕСТИЦИЙ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е типа инвесторов, которых можно привлечь на территор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ование стратегии по привлечению инвестор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рекламных и коммуникационных материалов, специальных мероприя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е бюджета на работу по привлечению инвести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инвестиционной карты территор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ТИЕ МЕСТНОГО БИЗНЕ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е перспективных видов региональной специал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ование комплекса мер по усилению конкурентоспособности местного бизне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новых товаров и услуг, включая их характеристики, цену и дизай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стратегии дистрибу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тие экспор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ТИЕ ТУРИЗ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туристической привлекательности территор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бор целевых рынков и целевых аудитор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туристических продуктов и маршрутов, включая логистику, ценообразование, нейминг и дизай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стратегии дистрибуции туристических продук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одоление фактора сезонности в туризм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событийных мероприя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БРЕНДА ТЕРРИТОР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е целевых аудиторий бренда территор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платформы брен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визуальной идентичности брен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ация и супервайзинг конкурсов и тендер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слоганов и коммерческих назва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коммуникационной стратег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ВИЖЕНИЕ ТЕРРИТОР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коммуникационной стратег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е бюджета на продвиж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ркетинг событий и проек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ация партнерских програм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бота со СМИ и блогосфер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вижение в социальных меди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содержания коммуникационных сообще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изайн коммуникационных сообще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С НАСЕЛЕ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комплекса мер по вовлечению в проект местного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с лидерами мн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рование и организация событийных мероприя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и подготовка материалов для публичных выступл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маркетинговых исслед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с населением в социальных меди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комплекса мер по уменьшению социального напря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социально-значимых прое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адание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дентификация целевых аудиторий, их характеристик и факторов привлекательности территории для н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WOT-анализ территор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spcAft>
                <a:spcPts val="1001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2525"/>
                </a:solidFill>
                <a:latin typeface="Arial"/>
                <a:ea typeface="Calibri"/>
              </a:rPr>
              <a:t>Так выплывает еще одна проблема.  В 2014 году в ЮФУ была защищена диссертация по маркетингу: РЕГИОНАЛЬНЫЙ КОЛЛЕКТИВНЫЙ БРЕНД В КОНКУРЕНТНОЙ СРЕДЕ: МАРКЕТИНГОВЫЕ ТЕХНОЛОГИИ ФОРМИРОВАНИЯ И ПРОДВИЖЕНИЯ. А втор Иванов  А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боте идет речь о  формировании единого регионального коллективного бренда (РКБ), под которым будет продвигаться продукция региональных производителей.  Э то поможет решить ряд проблем. Например, поспособствует привлечению внимания потребителей к продукции местных производителей и формированию ассоциативной связи насел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ежду образом региональных товаров и конкретных территор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красная идея, но давайте обратимся к истор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Немного об истории геобрендинга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2002 году один из ведущих мировых специалистов в области брендинга Саймон Анхольт впервые в качестве термина употребил фразу «брендинг мест». Анхольт стал основным разработчиком комплексного, диверсифицированного подхода к брендингу территорий в противовес узкоспециализированному, сфокусированному на каком-то одном аспекте (например, туризме). Анхольт создал концепцию конкурентной идентичности, представив ее в виде шестиугольника, который показывает шесть элементов современного бренда территор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9640" y="150840"/>
            <a:ext cx="8136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4:20:46Z</dcterms:created>
  <dc:creator>Ирина Каирова</dc:creator>
  <dc:description/>
  <dc:language>en-US</dc:language>
  <cp:lastModifiedBy>Irina</cp:lastModifiedBy>
  <dcterms:modified xsi:type="dcterms:W3CDTF">2015-02-24T12:13:01Z</dcterms:modified>
  <cp:revision>34</cp:revision>
  <dc:subject/>
  <dc:title>БРЕНДНГ ТЕРРИТОРИЙ</dc:title>
</cp:coreProperties>
</file>