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EC5-FD29-4867-98CF-8E6B0A25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4FD-0E0D-407E-A95A-E31D9F74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A8D-7405-453D-9BE3-7ED5AAC5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973-0A45-4C18-BDCE-F1D660A4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524-5010-4595-B734-37CB1A4A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3E4-6AD5-4424-9CD4-A3507648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BA4-5F03-4B0E-8D48-109E2EB9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7B8-1683-4116-A194-2D51BCAF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9D7-B543-4604-A1B2-13718038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5A1-6B61-42E8-A198-082C7DA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414-0C45-4D24-88A9-C83A39B4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204-7786-4675-B48C-4116DCB0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14ED-3E64-4255-9A31-3C103684E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Методы анализа факторов развития территор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STEP-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анал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SWOT-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анал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SWN-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анал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102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1258920" y="787320"/>
          <a:ext cx="7777080" cy="5883480"/>
        </p:xfrm>
        <a:graphic>
          <a:graphicData uri="http://schemas.openxmlformats.org/drawingml/2006/table">
            <a:tbl>
              <a:tblPr/>
              <a:tblGrid>
                <a:gridCol w="3684600"/>
                <a:gridCol w="409248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Сильные сторо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Возможности внешней сред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наличие значительных запасов минерального сырья для строительного компле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высокий интерес инвесторов к территории с точки зрения развития инфраструктуры активного отды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взаимное уси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относительно низкая цена земельных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высокий интерес инвесторов к территории с точки зрения строительства элитных коттеджных городков с полным инфраструктурным обеспеч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взаимное уси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8" name="Левая фигурная скобка 4" descr=""/>
          <p:cNvPicPr/>
          <p:nvPr/>
        </p:nvPicPr>
        <p:blipFill>
          <a:blip r:embed="rId1"/>
          <a:stretch/>
        </p:blipFill>
        <p:spPr>
          <a:xfrm>
            <a:off x="3687840" y="2932200"/>
            <a:ext cx="2536920" cy="560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3708360" y="5605560"/>
            <a:ext cx="2536920" cy="560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8720" y="115560"/>
            <a:ext cx="8315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S-O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- поле сильных сторон и внешних возможност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В результате наложения факторов убираем зоны взаимной нейтрализации (чаще всего это поля сравнений S&amp;T и W&amp;O) и факторы, вероятность реализации (влияния) которых в будущем является низ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113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14240" y="1600200"/>
            <a:ext cx="832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Arial"/>
                <a:ea typeface="Times New Roman"/>
              </a:rPr>
              <a:t>По взаимоусиливающим или взаимоослабляющим парам факторов формируются рекомендации по разработке стратегий развит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120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alibri"/>
              </a:rPr>
              <a:t>SWN-</a:t>
            </a: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анализ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Однако, существует еще возможность проанализировать  сильные, слабые и нейтральные стороны с целью формирования стратегии трансформации нейтральных сторон в сильные или слаб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128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84807"/>
                </a:solidFill>
                <a:latin typeface="Calibri"/>
              </a:rPr>
              <a:t>STEP-</a:t>
            </a: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анали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0400" y="1197000"/>
            <a:ext cx="8096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84807"/>
                </a:solidFill>
                <a:latin typeface="Calibri"/>
              </a:rPr>
              <a:t>Некоторые экономисты предлагают исследовать макросреду, используя </a:t>
            </a:r>
            <a:r>
              <a:rPr b="0" lang="en-US" sz="2700" spc="-1" strike="noStrike">
                <a:solidFill>
                  <a:srgbClr val="984807"/>
                </a:solidFill>
                <a:latin typeface="Calibri"/>
              </a:rPr>
              <a:t>STEP-</a:t>
            </a:r>
            <a:r>
              <a:rPr b="0" lang="ru-RU" sz="2700" spc="-1" strike="noStrike">
                <a:solidFill>
                  <a:srgbClr val="984807"/>
                </a:solidFill>
                <a:latin typeface="Calibri"/>
              </a:rPr>
              <a:t>анализ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84807"/>
                </a:solidFill>
                <a:latin typeface="Calibri"/>
              </a:rPr>
              <a:t>S</a:t>
            </a:r>
            <a:r>
              <a:rPr b="0" lang="ru-RU" sz="2700" spc="-1" strike="noStrike">
                <a:solidFill>
                  <a:srgbClr val="984807"/>
                </a:solidFill>
                <a:latin typeface="Calibri"/>
              </a:rPr>
              <a:t>- (sociocultural forces) социокультурные факторы макросред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84807"/>
                </a:solidFill>
                <a:latin typeface="Calibri"/>
              </a:rPr>
              <a:t>T — (technological forces) технологические факторы внешнего окруж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84807"/>
                </a:solidFill>
                <a:latin typeface="Calibri"/>
              </a:rPr>
              <a:t>E — (economic forces) экономические факторы дальнего окруж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84807"/>
                </a:solidFill>
                <a:latin typeface="Calibri"/>
              </a:rPr>
              <a:t>P — (political-legal forces) политико-правовые факторы макросред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84807"/>
                </a:solidFill>
                <a:latin typeface="Calibri"/>
              </a:rPr>
              <a:t>Но если использовать полный спектр критериев в </a:t>
            </a:r>
            <a:r>
              <a:rPr b="0" lang="en-US" sz="2700" spc="-1" strike="noStrike">
                <a:solidFill>
                  <a:srgbClr val="984807"/>
                </a:solidFill>
                <a:latin typeface="Calibri"/>
              </a:rPr>
              <a:t>SWOT-</a:t>
            </a:r>
            <a:r>
              <a:rPr b="0" lang="ru-RU" sz="2700" spc="-1" strike="noStrike">
                <a:solidFill>
                  <a:srgbClr val="984807"/>
                </a:solidFill>
                <a:latin typeface="Calibri"/>
              </a:rPr>
              <a:t>анализе, то анализ макросреды получится не менее полны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136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84807"/>
                </a:solidFill>
                <a:latin typeface="Calibri"/>
              </a:rPr>
              <a:t>SWOT </a:t>
            </a: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анализ применяется на разных стадиях развития регио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Ex-ante evaluation – 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оценивание, проводимое на стадии формулирования поли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On-going/midterm evaluation – 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промежуточное оцен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Ex-post evaluation – 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финальное оцени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144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84807"/>
                </a:solidFill>
                <a:latin typeface="Calibri"/>
              </a:rPr>
              <a:t>Задание: рассмотреть регион как совокупность шести взаимосвязанных макроподсисте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151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6" name="Picture 2" descr="http://www.booksite.ru/fulltext/reg/ion/aln/yea/2.jpg"/>
          <p:cNvPicPr/>
          <p:nvPr/>
        </p:nvPicPr>
        <p:blipFill>
          <a:blip r:embed="rId1"/>
          <a:stretch/>
        </p:blipFill>
        <p:spPr>
          <a:xfrm>
            <a:off x="2195640" y="1146240"/>
            <a:ext cx="47527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Матрица  </a:t>
            </a:r>
            <a:r>
              <a:rPr b="1" lang="en-US" sz="4400" spc="-1" strike="noStrike">
                <a:solidFill>
                  <a:srgbClr val="984807"/>
                </a:solidFill>
                <a:latin typeface="Calibri"/>
              </a:rPr>
              <a:t>SWOT-</a:t>
            </a: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ана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36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Анализ внутренних факто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>
                        <a:alpha val="9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Анализ внешних факторов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х фак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>
                        <a:alpha val="95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Сильные стороны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9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Благоприятные возможности  (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95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Слабые стороны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9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Угрозы  (</a:t>
                      </a:r>
                      <a:r>
                        <a:rPr b="1" lang="en-US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95000"/>
                      </a:srgbClr>
                    </a:solidFill>
                  </a:tcPr>
                </a:tc>
              </a:tr>
            </a:tbl>
          </a:graphicData>
        </a:graphic>
      </p:graphicFrame>
      <p:cxnSp>
        <p:nvCxnSpPr>
          <p:cNvPr id="45" name="Прямая со стрелкой 5"/>
          <p:cNvCxnSpPr/>
          <p:nvPr/>
        </p:nvCxnSpPr>
        <p:spPr>
          <a:xfrm>
            <a:off x="2410920" y="2133360"/>
            <a:ext cx="1080" cy="432360"/>
          </a:xfrm>
          <a:prstGeom prst="straightConnector1">
            <a:avLst/>
          </a:prstGeom>
          <a:ln w="57240">
            <a:solidFill>
              <a:srgbClr val="d7b87f"/>
            </a:solidFill>
            <a:miter/>
            <a:tailEnd len="med" type="arrow" w="med"/>
          </a:ln>
        </p:spPr>
      </p:cxn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300720" y="2138400"/>
            <a:ext cx="592200" cy="7858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48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Для определения критериев оценки макросреды региона, рассмотрим регион с позиции системного подхода  как объект стратегического управления. Регион представляет собой комплекс взаимосвязанных макроподсист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4360" y="568440"/>
          <a:ext cx="8424720" cy="5236920"/>
        </p:xfrm>
        <a:graphic>
          <a:graphicData uri="http://schemas.openxmlformats.org/drawingml/2006/table">
            <a:tbl>
              <a:tblPr/>
              <a:tblGrid>
                <a:gridCol w="2552400"/>
                <a:gridCol w="587232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84807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984807"/>
                          </a:solidFill>
                          <a:latin typeface="Tahoma"/>
                          <a:ea typeface="Times New Roman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84807"/>
                          </a:solidFill>
                          <a:latin typeface="Tahoma"/>
                          <a:ea typeface="Times New Roman"/>
                        </a:rPr>
                        <a:t>Критерии оцен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региональное хозяй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включает всю инфраструктуру, обеспечивающую жизнедеятельность региона (Архитектура и строительство; Дороги; Инженерные коммуникации; ЖКХ; Экология; Маркетинг регио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производственная 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в нее входят все отрасли материального производства (кроме АПК), производящие валовой региональный продукт (Промышленность; Строительство; Транспорт и связь; Торговля, бытовое обслуживание и общепит; Наука и науч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Обслуживание, иннов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агропромышленный компле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включает сельское и лесное хозяйство, территорию и природные ресурсы как источник регионального богатства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1"/>
          <p:cNvSpPr/>
          <p:nvPr/>
        </p:nvSpPr>
        <p:spPr>
          <a:xfrm>
            <a:off x="1971720" y="18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57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26920" y="260280"/>
          <a:ext cx="8209080" cy="6432480"/>
        </p:xfrm>
        <a:graphic>
          <a:graphicData uri="http://schemas.openxmlformats.org/drawingml/2006/table">
            <a:tbl>
              <a:tblPr/>
              <a:tblGrid>
                <a:gridCol w="2027520"/>
                <a:gridCol w="618156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84807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984807"/>
                          </a:solidFill>
                          <a:latin typeface="Tahoma"/>
                          <a:ea typeface="Times New Roman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84807"/>
                          </a:solidFill>
                          <a:latin typeface="Tahoma"/>
                          <a:ea typeface="Times New Roman"/>
                        </a:rPr>
                        <a:t>Критерии оцен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социальная 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все отрасли воспроизводства и духовного развития населения региона (Образование; Культура и искусство; Физкультура, спорт и туризм; Здравоохранение; Социальное обеспечение населения; Трудовые ресурсы и занятость населе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финансово-экономическая 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обеспечивающая макроэкономические пропорции, финансовые связи отраслей региона в виде бюджета региона  (Макроэкономика; Бюджет и финансы; Инвестиции; Налоги; Имущество и собственность; Рыночные институты; Малое предпринимательство; ВЭ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управленческая 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984807"/>
                          </a:solidFill>
                          <a:latin typeface="Calibri"/>
                          <a:ea typeface="Calibri"/>
                        </a:rPr>
                        <a:t>совокупность федеральных, региональных и муниципальных органов власти в регионе (Законодательные органы; Администрация; Налоговые органы; Правоохранительные органы; Судебные органы; Органы государственного контроля; Органы госстатистик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3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64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Задачи SWOT-анализа различаются для групп субъектов территориального бренди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71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77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1030320" y="189000"/>
          <a:ext cx="7934400" cy="4662360"/>
        </p:xfrm>
        <a:graphic>
          <a:graphicData uri="http://schemas.openxmlformats.org/drawingml/2006/table">
            <a:tbl>
              <a:tblPr/>
              <a:tblGrid>
                <a:gridCol w="2894040"/>
                <a:gridCol w="5040360"/>
              </a:tblGrid>
              <a:tr h="409320">
                <a:tc>
                  <a:txBody>
                    <a:bodyPr lIns="9360" rIns="9360" tIns="38160" bIns="38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Субъект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38160" bIns="38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Задачи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8840">
                <a:tc>
                  <a:txBody>
                    <a:bodyPr lIns="9360" rIns="9360" tIns="38160" bIns="38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производственные и сбытовые компании; инвес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38160" bIns="3816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84807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анализ макросреды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84807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исследование внутренних сильных и слабых сторон организаци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984807"/>
                        </a:buClr>
                        <a:buFont typeface="Arial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выявление зон стратегического маневра и направлений стратегического  ла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4200">
                <a:tc>
                  <a:txBody>
                    <a:bodyPr lIns="9360" rIns="9360" tIns="38160" bIns="38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администрация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муниципального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38160" bIns="38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1. исследование соответствующего региона и страны как макросреды функционирования муниципального образова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2. анализ внутренних сильных и слабых сторон региона;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3. определение направлений стратегического развития терри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030320" y="4869000"/>
          <a:ext cx="7934400" cy="647640"/>
        </p:xfrm>
        <a:graphic>
          <a:graphicData uri="http://schemas.openxmlformats.org/drawingml/2006/table">
            <a:tbl>
              <a:tblPr/>
              <a:tblGrid>
                <a:gridCol w="2894040"/>
                <a:gridCol w="5040360"/>
              </a:tblGrid>
              <a:tr h="647640">
                <a:tc>
                  <a:txBody>
                    <a:bodyPr lIns="9360" rIns="9360" tIns="38160" bIns="38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индивиды (резиденты и нерезиден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38160" bIns="38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Arial"/>
                          <a:ea typeface="Calibri"/>
                        </a:rPr>
                        <a:t>…………………</a:t>
                      </a: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Arial"/>
                          <a:ea typeface="Calibri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030320" y="5516640"/>
          <a:ext cx="7934400" cy="720720"/>
        </p:xfrm>
        <a:graphic>
          <a:graphicData uri="http://schemas.openxmlformats.org/drawingml/2006/table">
            <a:tbl>
              <a:tblPr/>
              <a:tblGrid>
                <a:gridCol w="2894040"/>
                <a:gridCol w="5040360"/>
              </a:tblGrid>
              <a:tr h="720720">
                <a:tc>
                  <a:txBody>
                    <a:bodyPr lIns="9360" rIns="9360" tIns="38160" bIns="38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84807"/>
                          </a:solidFill>
                          <a:latin typeface="Arial"/>
                          <a:ea typeface="Calibri"/>
                        </a:rPr>
                        <a:t>Органы государственной вла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38160" bIns="38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………………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Этапы </a:t>
            </a:r>
            <a:r>
              <a:rPr b="1" lang="en-US" sz="4400" spc="-1" strike="noStrike">
                <a:solidFill>
                  <a:srgbClr val="984807"/>
                </a:solidFill>
                <a:latin typeface="Calibri"/>
              </a:rPr>
              <a:t>SWOT-</a:t>
            </a: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анали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сбор информации о социально-экономическом состоянии и процессах, протекающих в муниципальном образован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построение матрицы SWOT-анализ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установление связей между факторами внешней и внутренней сре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выявление зон стратегического маневра и направлений стратегического планир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88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14240" y="1599840"/>
            <a:ext cx="79725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Важный этап SWOT-анализа - установление связей между факторами внешней и внутренней сред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Задача этапа — парное наложение каждого из факторов матрицы и ответ на вопрос, какие пары факторов имеют тенденцию к взаимному усилению, взаимной нейтрализации или ослабле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28440" y="-19080"/>
            <a:ext cx="1229040" cy="11415600"/>
            <a:chOff x="28440" y="-19080"/>
            <a:chExt cx="1229040" cy="11415600"/>
          </a:xfrm>
        </p:grpSpPr>
        <p:sp>
          <p:nvSpPr>
            <p:cNvPr id="95" name="Freeform 4"/>
            <p:cNvSpPr/>
            <p:nvPr/>
          </p:nvSpPr>
          <p:spPr>
            <a:xfrm>
              <a:off x="1620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>
              <a:off x="2844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6"/>
            <p:cNvSpPr/>
            <p:nvPr/>
          </p:nvSpPr>
          <p:spPr>
            <a:xfrm>
              <a:off x="399960" y="-19080"/>
              <a:ext cx="85752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28584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95400" y="-19080"/>
              <a:ext cx="857160" cy="1141560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0" name=""/>
          <p:cNvGraphicFramePr/>
          <p:nvPr/>
        </p:nvGraphicFramePr>
        <p:xfrm>
          <a:off x="2556000" y="260280"/>
          <a:ext cx="3456000" cy="115884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S</a:t>
                      </a:r>
                      <a:r>
                        <a:rPr b="1" lang="ru-RU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W</a:t>
                      </a:r>
                      <a:r>
                        <a:rPr b="1" lang="ru-RU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S</a:t>
                      </a:r>
                      <a:r>
                        <a:rPr b="1" lang="ru-RU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W</a:t>
                      </a:r>
                      <a:r>
                        <a:rPr b="1" lang="ru-RU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32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1:51:54Z</dcterms:created>
  <dc:creator>Ирина Каирова</dc:creator>
  <dc:description/>
  <dc:language>en-US</dc:language>
  <cp:lastModifiedBy>Каирова Ирина Александровна</cp:lastModifiedBy>
  <dcterms:modified xsi:type="dcterms:W3CDTF">2023-10-23T18:32:29Z</dcterms:modified>
  <cp:revision>24</cp:revision>
  <dc:subject/>
  <dc:title>Презентация PowerPoint</dc:title>
</cp:coreProperties>
</file>